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BA4925-BC97-462F-AEAA-F349FA0944D5}"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9280D-AEC9-422E-9C08-4E6D022A8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B24B7-4664-4990-8735-529CFDD29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7BD74-95DC-4BBD-BEED-F4E8960D3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EDCF7-6488-4F3B-9DE4-FA88E14AE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354BF-6B74-46E7-8F0C-3E90FABB2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21666-CFC5-40D9-BE7A-68C1841A7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26E1D-D864-4CCB-B1E7-8FB0C3CE8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A85F1-A5C6-4317-AC6A-89AC4F3FA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4A3D3-9AC7-466F-BB91-370E7D8FA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220C4-2ADE-4946-853D-EF62C049D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F6C17-B3B4-4279-ABC6-83B75A946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DFC73-93EF-470C-9085-6F344B24A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895F6-6F13-46CF-B3DD-8CAEC7A4D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3FB50-14BA-4A59-B6F2-BB39AB6DF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52ACE-3B73-4E9A-813B-DE0CA498C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C8519-A004-4FBE-A6F4-32A894F65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00106-1A3F-43BD-B40B-2568980D2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32290-BD95-43F6-A593-F0D0040D5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01FFF-F19D-4B88-8A57-73CA25890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2173B-728B-409A-99B6-881AF2B1A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5D0FA-7296-4B88-BB21-DB57CE89E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AA833-AAB8-4C3E-9AE5-A031062AA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C372C-EBAE-4235-946E-D0FEF32BE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CB211-47F0-4362-85D6-4529E2840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9A9A-2C2D-498B-9B28-E6AAD9964436}"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7ED9-DE2B-47C0-BBA8-0731D10336D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CA43-75A1-44BF-8CF9-E8E8EA7883FF}"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1C87-A739-4ADB-B596-0A20DA38D2BE}"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126919E-6F80-444A-8F4B-6D68865397B5}" type="slidenum">
              <a:t>10</a:t>
            </a:fld>
          </a:p>
        </p:txBody>
      </p:sp>
      <p:sp>
        <p:nvSpPr>
          <p:cNvPr id="6" name="PlaceHolder 5"/>
          <p:cNvSpPr>
            <a:spLocks noGrp="1"/>
          </p:cNvSpPr>
          <p:nvPr>
            <p:ph type="dt" idx="1"/>
          </p:nvPr>
        </p:nvSpPr>
        <p:spPr/>
        <p:txBody>
          <a:bodyPr/>
          <a:p>
            <a:fld id="{4C4323EE-F15E-491D-B252-9548958F97B5}" type="datetime1">
              <a:rPr lang="en-US"/>
              <a:t>07/29/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C36156A-C2B4-4800-91E1-7FD1582E2862}" type="slidenum">
              <a:t>11</a:t>
            </a:fld>
          </a:p>
        </p:txBody>
      </p:sp>
      <p:sp>
        <p:nvSpPr>
          <p:cNvPr id="6" name="PlaceHolder 5"/>
          <p:cNvSpPr>
            <a:spLocks noGrp="1"/>
          </p:cNvSpPr>
          <p:nvPr>
            <p:ph type="dt" idx="1"/>
          </p:nvPr>
        </p:nvSpPr>
        <p:spPr/>
        <p:txBody>
          <a:bodyPr/>
          <a:p>
            <a:fld id="{B32BD2F1-A441-431B-8715-7149E068C7A9}" type="datetime1">
              <a:rPr lang="en-US"/>
              <a:t>07/29/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5E479A1-D13B-45C6-AFC8-904160E174C3}" type="slidenum">
              <a:t>12</a:t>
            </a:fld>
          </a:p>
        </p:txBody>
      </p:sp>
      <p:sp>
        <p:nvSpPr>
          <p:cNvPr id="5" name="PlaceHolder 4"/>
          <p:cNvSpPr>
            <a:spLocks noGrp="1"/>
          </p:cNvSpPr>
          <p:nvPr>
            <p:ph type="dt" idx="1"/>
          </p:nvPr>
        </p:nvSpPr>
        <p:spPr/>
        <p:txBody>
          <a:bodyPr/>
          <a:p>
            <a:fld id="{CC65D4F6-8E2F-4B19-8EEA-4E882E3CE1F1}" type="datetime1">
              <a:rPr lang="en-US"/>
              <a:t>07/29/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78AECAE-E440-40EE-833C-D35117A5843A}" type="slidenum">
              <a:t>13</a:t>
            </a:fld>
          </a:p>
        </p:txBody>
      </p:sp>
      <p:sp>
        <p:nvSpPr>
          <p:cNvPr id="5" name="PlaceHolder 4"/>
          <p:cNvSpPr>
            <a:spLocks noGrp="1"/>
          </p:cNvSpPr>
          <p:nvPr>
            <p:ph type="dt" idx="1"/>
          </p:nvPr>
        </p:nvSpPr>
        <p:spPr/>
        <p:txBody>
          <a:bodyPr/>
          <a:p>
            <a:fld id="{7C5CF0A1-C29E-47EB-9548-2C372745F884}" type="datetime1">
              <a:rPr lang="en-US"/>
              <a:t>07/29/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769465C-33A2-44B7-98A8-1D8364984D71}" type="slidenum">
              <a:t>14</a:t>
            </a:fld>
          </a:p>
        </p:txBody>
      </p:sp>
      <p:sp>
        <p:nvSpPr>
          <p:cNvPr id="5" name="PlaceHolder 4"/>
          <p:cNvSpPr>
            <a:spLocks noGrp="1"/>
          </p:cNvSpPr>
          <p:nvPr>
            <p:ph type="dt" idx="1"/>
          </p:nvPr>
        </p:nvSpPr>
        <p:spPr/>
        <p:txBody>
          <a:bodyPr/>
          <a:p>
            <a:fld id="{1BBD17A4-47F8-4685-AB99-F67EA9AEBB9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DFBE87F-B6F5-471D-88BC-D3B7CD90F302}" type="slidenum">
              <a:t>15</a:t>
            </a:fld>
          </a:p>
        </p:txBody>
      </p:sp>
      <p:sp>
        <p:nvSpPr>
          <p:cNvPr id="6" name="PlaceHolder 5"/>
          <p:cNvSpPr>
            <a:spLocks noGrp="1"/>
          </p:cNvSpPr>
          <p:nvPr>
            <p:ph type="dt" idx="1"/>
          </p:nvPr>
        </p:nvSpPr>
        <p:spPr/>
        <p:txBody>
          <a:bodyPr/>
          <a:p>
            <a:fld id="{85724164-2EE7-41C9-B2C9-F3FAE5A29700}"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BC4BA5A-B63D-4017-9FBE-C99D68C52402}" type="slidenum">
              <a:t>16</a:t>
            </a:fld>
          </a:p>
        </p:txBody>
      </p:sp>
      <p:sp>
        <p:nvSpPr>
          <p:cNvPr id="5" name="PlaceHolder 4"/>
          <p:cNvSpPr>
            <a:spLocks noGrp="1"/>
          </p:cNvSpPr>
          <p:nvPr>
            <p:ph type="dt" idx="1"/>
          </p:nvPr>
        </p:nvSpPr>
        <p:spPr/>
        <p:txBody>
          <a:bodyPr/>
          <a:p>
            <a:fld id="{F429A8A5-D8B8-4FF5-AD3C-6B538C168470}" type="datetime1">
              <a:rPr lang="en-US"/>
              <a:t>07/29/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231495A-E59A-46DC-B45B-402C6DF266E6}" type="slidenum">
              <a:t>17</a:t>
            </a:fld>
          </a:p>
        </p:txBody>
      </p:sp>
      <p:sp>
        <p:nvSpPr>
          <p:cNvPr id="5" name="PlaceHolder 4"/>
          <p:cNvSpPr>
            <a:spLocks noGrp="1"/>
          </p:cNvSpPr>
          <p:nvPr>
            <p:ph type="dt" idx="1"/>
          </p:nvPr>
        </p:nvSpPr>
        <p:spPr/>
        <p:txBody>
          <a:bodyPr/>
          <a:p>
            <a:fld id="{1EAAAC3A-E195-4EA3-A251-7BBDAE24007C}" type="datetime1">
              <a:rPr lang="en-US"/>
              <a:t>07/29/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6BA0B54-6CF2-4C4F-BB73-8A772D18C3B1}" type="slidenum">
              <a:t>18</a:t>
            </a:fld>
          </a:p>
        </p:txBody>
      </p:sp>
      <p:sp>
        <p:nvSpPr>
          <p:cNvPr id="5" name="PlaceHolder 4"/>
          <p:cNvSpPr>
            <a:spLocks noGrp="1"/>
          </p:cNvSpPr>
          <p:nvPr>
            <p:ph type="dt" idx="1"/>
          </p:nvPr>
        </p:nvSpPr>
        <p:spPr/>
        <p:txBody>
          <a:bodyPr/>
          <a:p>
            <a:fld id="{1713E2AF-1B21-4FC3-A259-AE8C2CDA4E5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DD24521-4A6A-4EBA-AAD9-970630A5030A}" type="slidenum">
              <a:t>19</a:t>
            </a:fld>
          </a:p>
        </p:txBody>
      </p:sp>
      <p:sp>
        <p:nvSpPr>
          <p:cNvPr id="6" name="PlaceHolder 5"/>
          <p:cNvSpPr>
            <a:spLocks noGrp="1"/>
          </p:cNvSpPr>
          <p:nvPr>
            <p:ph type="dt" idx="1"/>
          </p:nvPr>
        </p:nvSpPr>
        <p:spPr/>
        <p:txBody>
          <a:bodyPr/>
          <a:p>
            <a:fld id="{17C8FE3F-FA46-48B8-9B23-5F280600458B}"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1575A0C-0931-436A-B403-93991DB445AB}" type="slidenum">
              <a:t>2</a:t>
            </a:fld>
          </a:p>
        </p:txBody>
      </p:sp>
      <p:sp>
        <p:nvSpPr>
          <p:cNvPr id="6" name="PlaceHolder 5"/>
          <p:cNvSpPr>
            <a:spLocks noGrp="1"/>
          </p:cNvSpPr>
          <p:nvPr>
            <p:ph type="dt" idx="1"/>
          </p:nvPr>
        </p:nvSpPr>
        <p:spPr/>
        <p:txBody>
          <a:bodyPr/>
          <a:p>
            <a:fld id="{519A3F66-4AFB-4522-A22F-0B68968D788A}" type="datetime1">
              <a:rPr lang="en-US"/>
              <a:t>07/29/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BB88B7F-32B5-481D-8620-2C4C00DCBF59}" type="slidenum">
              <a:t>3</a:t>
            </a:fld>
          </a:p>
        </p:txBody>
      </p:sp>
      <p:sp>
        <p:nvSpPr>
          <p:cNvPr id="5" name="PlaceHolder 4"/>
          <p:cNvSpPr>
            <a:spLocks noGrp="1"/>
          </p:cNvSpPr>
          <p:nvPr>
            <p:ph type="dt" idx="1"/>
          </p:nvPr>
        </p:nvSpPr>
        <p:spPr/>
        <p:txBody>
          <a:bodyPr/>
          <a:p>
            <a:fld id="{075901D7-0342-4AF3-BD53-3C377A80506D}" type="datetime1">
              <a:rPr lang="en-US"/>
              <a:t>07/29/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2022BBD-3A3B-43EF-9099-A9D718B97363}" type="slidenum">
              <a:t>4</a:t>
            </a:fld>
          </a:p>
        </p:txBody>
      </p:sp>
      <p:sp>
        <p:nvSpPr>
          <p:cNvPr id="6" name="PlaceHolder 5"/>
          <p:cNvSpPr>
            <a:spLocks noGrp="1"/>
          </p:cNvSpPr>
          <p:nvPr>
            <p:ph type="dt" idx="1"/>
          </p:nvPr>
        </p:nvSpPr>
        <p:spPr/>
        <p:txBody>
          <a:bodyPr/>
          <a:p>
            <a:fld id="{7FA0C0B0-4E85-42D6-8FC5-A721FFA93D6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7ADF81D-6AF9-46DC-A8C9-5C0060B3B756}" type="slidenum">
              <a:t>5</a:t>
            </a:fld>
          </a:p>
        </p:txBody>
      </p:sp>
      <p:sp>
        <p:nvSpPr>
          <p:cNvPr id="6" name="PlaceHolder 5"/>
          <p:cNvSpPr>
            <a:spLocks noGrp="1"/>
          </p:cNvSpPr>
          <p:nvPr>
            <p:ph type="dt" idx="1"/>
          </p:nvPr>
        </p:nvSpPr>
        <p:spPr/>
        <p:txBody>
          <a:bodyPr/>
          <a:p>
            <a:fld id="{D2282097-237A-487F-8EBE-6F559CCBC05C}" type="datetime1">
              <a:rPr lang="en-US"/>
              <a:t>07/29/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68762CA-5890-4ACE-B1D5-ACEA5F90214F}" type="slidenum">
              <a:t>6</a:t>
            </a:fld>
          </a:p>
        </p:txBody>
      </p:sp>
      <p:sp>
        <p:nvSpPr>
          <p:cNvPr id="6" name="PlaceHolder 5"/>
          <p:cNvSpPr>
            <a:spLocks noGrp="1"/>
          </p:cNvSpPr>
          <p:nvPr>
            <p:ph type="dt" idx="1"/>
          </p:nvPr>
        </p:nvSpPr>
        <p:spPr/>
        <p:txBody>
          <a:bodyPr/>
          <a:p>
            <a:fld id="{765DCCA9-36FC-4018-947F-6BC4277692E1}" type="datetime1">
              <a:rPr lang="en-US"/>
              <a:t>07/29/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7494345-4549-44F7-A35E-5A5FE9FE4050}" type="slidenum">
              <a:t>7</a:t>
            </a:fld>
          </a:p>
        </p:txBody>
      </p:sp>
      <p:sp>
        <p:nvSpPr>
          <p:cNvPr id="5" name="PlaceHolder 4"/>
          <p:cNvSpPr>
            <a:spLocks noGrp="1"/>
          </p:cNvSpPr>
          <p:nvPr>
            <p:ph type="dt" idx="1"/>
          </p:nvPr>
        </p:nvSpPr>
        <p:spPr/>
        <p:txBody>
          <a:bodyPr/>
          <a:p>
            <a:fld id="{464B88C8-7886-4EF8-A54B-828CDB9FB26B}" type="datetime1">
              <a:rPr lang="en-US"/>
              <a:t>07/29/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E892A60-9285-4043-9DCF-EDB493F34392}" type="slidenum">
              <a:t>8</a:t>
            </a:fld>
          </a:p>
        </p:txBody>
      </p:sp>
      <p:sp>
        <p:nvSpPr>
          <p:cNvPr id="5" name="PlaceHolder 4"/>
          <p:cNvSpPr>
            <a:spLocks noGrp="1"/>
          </p:cNvSpPr>
          <p:nvPr>
            <p:ph type="dt" idx="1"/>
          </p:nvPr>
        </p:nvSpPr>
        <p:spPr/>
        <p:txBody>
          <a:bodyPr/>
          <a:p>
            <a:fld id="{39B4AB4D-9334-4337-8250-74D24084E063}" type="datetime1">
              <a:rPr lang="en-US"/>
              <a:t>07/29/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53D421E-C897-4DF1-8C12-7E7D8BB3CE74}" type="slidenum">
              <a:t>9</a:t>
            </a:fld>
          </a:p>
        </p:txBody>
      </p:sp>
      <p:sp>
        <p:nvSpPr>
          <p:cNvPr id="6" name="PlaceHolder 5"/>
          <p:cNvSpPr>
            <a:spLocks noGrp="1"/>
          </p:cNvSpPr>
          <p:nvPr>
            <p:ph type="dt" idx="1"/>
          </p:nvPr>
        </p:nvSpPr>
        <p:spPr/>
        <p:txBody>
          <a:bodyPr/>
          <a:p>
            <a:fld id="{9A22F80C-50DF-47E8-AF72-F8178FADE7AF}" type="datetime1">
              <a:rPr lang="en-US"/>
              <a:t>07/29/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